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C801-5573-41A3-BE66-3BE2ED0351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EC76-9627-4FF6-8A6F-4556DE7773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33BB-A5AF-4333-85EA-9947173290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3CB1-C394-4763-921A-28123B51B0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8683-DF9A-4311-BD43-0803300B9B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D482-37F2-4750-9E7B-E0DA8223BE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E2DC-384D-4E32-BA8F-550B92B38B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5115-145B-4DC5-A530-AC5C039329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5D94-3589-47E8-8E78-A607366BD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A9DF-23EC-4B68-A2A7-83F3750703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869F-0409-4E6D-A27D-9A5C116D36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6B26-746B-4DE5-A5FF-9E0A0CE197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C824-F55A-4C00-8EA7-C492824534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CE79-F731-4BF6-B1F5-1F4E00C63A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38BC-9D00-4CB7-BF67-F1B1ABA91E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45DB-E94D-4A22-A6BC-96A0DB3E92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34A1-8C46-4E3C-B233-40D1FDFBE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FE56-4E84-457C-97BD-027321B18D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C841-FBBE-4FE8-AE3B-D49BA5675F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60DD-7883-4452-A2F8-132319A6D2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2E9A-A95C-431C-B282-CD952FA2AD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73E9-B47F-4F7B-82B9-A897BA651D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2541-D53E-4FD2-BB5E-433B4022FE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F4D5-D4A3-4318-9674-2202BCB172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8D78-5394-4EAB-9A11-4D4853466F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AF6C-E681-4BDC-A59A-FB8C7CBBEC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F819-247B-4751-86C0-515DA84136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064F-1B83-49E7-A2C3-E37B5312CD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00B1-4E02-4887-AC4A-683DF62AA0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6689-F81F-4E1E-9BFA-857913CC74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BB4F-2B72-4E50-913F-6A91A83339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C160-BC96-4244-A62B-AE92313226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7CE0-571B-464B-B3B4-64859DADD4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B31F-396E-406A-BD0F-0AAC5E259B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E89A-F26D-4C34-8A59-4DCEFE6AB8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7DB-ABDF-4F25-8B4E-A5270FCE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998-386D-4978-88A6-AD8D51A0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A13-6713-456F-A5D6-73D543ED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44A-69C7-4512-AFF5-05BA64BD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62B1-D0A0-42BD-A12C-D663AB90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ACE1-6232-4765-83E5-78B19529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3993-A300-4E72-9610-0E55A861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63E0-851D-434E-9374-9CDD1142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BB10-33F1-4452-B838-6A4C3EAF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3CED-1A1C-48B9-B805-3EDD42DB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56AC-372A-463E-977D-481C85A3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FEC-F0FC-4F12-B22F-027D6907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D77D-BD1C-48AC-B181-8518377A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569B-2827-47C7-AEFE-EA227CA4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E07A-24BE-4ADD-9716-C2758525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0CF7-5558-4095-9925-DB0577B1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CBE4-82CF-4C19-9C09-1723DC1E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2C35F-9F87-41C1-96E9-C71B0DDE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3550E-D7AE-4FD0-A769-E3C49873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FB385-ECA5-4BD3-AA7A-C545C965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8142E-9E19-41EE-9162-631D3425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4ED53-56FB-4B2B-B6F2-D7B83851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C98-E76B-40F9-8C62-96E42EBE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7B3A-67E2-4405-8A31-42B13CD5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0645D-F034-4F3F-A623-9BEF4CF3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B73DA-AD9B-48F5-ADF0-0AEF34BD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020BE-DB03-4C1C-A82D-AEEA370B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91BC6-DD40-4B22-93FE-56A3F479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AC752-E9D6-4651-91C6-19586085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8E2AF-D0C3-4400-BE9F-2CC493B1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8B818-51E6-4A43-8F94-424A246B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7A05E-1D54-4766-95B2-7C365577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9856C-E0FE-4BB6-9A35-775696D2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DCA-EDFB-426D-B64E-D2806C86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A013E-0332-4A70-83CC-47523196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F6638-F980-403E-B97D-512926AC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EA7DF-7E1A-45BB-A854-BD4CDE1D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38D35-4925-4F48-86A6-C5DC2D3D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75709-EEE3-4AC8-90C5-64F5FA92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EA73B-19A7-41A5-B742-E34F66E9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AC1BD-746E-42CF-8314-E8CD24F4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90F8C-77EE-4120-94F8-8DD45526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75832-BC40-45AA-A781-D57B790E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FE333-7D99-4E75-B1A1-9D213C44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E60-5231-4E09-A503-25502F1A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E532E-6132-413E-B10E-EAB85556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1EED4-C446-4099-AA2F-6BF5DAB9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4E2E2-1437-43F4-877B-44801ECE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4D967-768C-41B3-9123-2C6FC0A4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D222C-F9F4-4D93-AA1B-5135D381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E8E98-CC4E-4E9D-A070-9F27812B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BCFB3-7134-4EB4-9C01-6B454259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CF328-F682-4509-AC7D-C0670AB5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B554A-8BAF-46A4-8C51-EBC6BDCE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C166D-6929-4BC7-9A06-56890648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6A9-082B-444B-8553-94D45717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4050F-3008-474E-A87B-52C1522F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7B7D0-B005-4AAB-95D2-ACDB6DC6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1FEC2-7B1F-4BB2-9500-42BE43AF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E938D-3B29-4C0A-B012-2B1B4C21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FCD62-3BF7-42C7-A15E-64CAC7CB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924F7-94E6-4C5A-AA00-B2494519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0541B-213B-4A3D-AD59-854DDF66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F428B-6E27-4D54-B52B-1EB274F8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49ED2-A9CD-4BBA-9924-913F6A69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D1939-997F-4B59-82C8-F9AE7B62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C5F-7671-4B22-B415-3DF54CF0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BE0AF-A521-4524-9E64-7779C7BF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9AFAB-EDAF-4AD0-BCD2-70F42D79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F1136-39CF-4D58-8739-8C0B55BD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43E61-F59B-4A71-8F71-DF7106EB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1B6F9-C6A2-4439-9E8F-F7DB83E4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F8F6C-7611-42E2-A8AF-63AF4CC9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B29DA-02EE-4FC4-86F2-097C40D4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EC593-29BD-486E-BB69-E40AFC25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60826-D83D-4195-8530-4AF48062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C6EF4-1CCC-4272-BC0F-08DD3675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608-554B-481E-BF73-B585117D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C3E86-35B8-4B1C-9154-951B6EFF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4E49A-8AE2-4B41-B7AE-82500E4F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62854-6B6A-46BB-B510-18202966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CB407-FC65-47C4-BB92-6CE89643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0188B-9FAF-4F00-B905-9AE842A1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185-E739-4C42-A1A4-735C6183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3625-313F-4FB3-9675-0FE1BDB6274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ABA6-BD09-4464-BAF8-832CB658A53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0A1D-94AC-4FDF-838E-1317728B2FD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C210-BA43-499E-84D3-D7F593C74DF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B8FA-FE4F-4387-9845-B888D728E66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4242-6949-4CB4-BE64-CF95E6380EE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B883-3D6A-48B7-A722-6E409DA4FE4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785520"/>
            <a:ext cx="74073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Data Structures and Algorithms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99760" y="2857680"/>
            <a:ext cx="6124680" cy="2357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0e04"/>
                </a:solidFill>
                <a:latin typeface="Gill Sans MT"/>
              </a:rPr>
              <a:t>Lecture 12 and 13 (Queu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0e04"/>
                </a:solidFill>
                <a:latin typeface="Gill Sans MT"/>
              </a:rPr>
              <a:t>Instructor:   Quratula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0e04"/>
                </a:solidFill>
                <a:latin typeface="Gill Sans MT"/>
              </a:rPr>
              <a:t>Date:  22 and 27 October,  2009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20e04"/>
                </a:solidFill>
                <a:latin typeface="Gill Sans MT"/>
              </a:rPr>
              <a:t>Faculty of Computer Science, IB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queue Ope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219320" y="1447560"/>
            <a:ext cx="7138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Object dequeue() throws Exception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empty() 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throw new Exception(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return store[front++]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3124080" y="5638680"/>
            <a:ext cx="5715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5"/>
          <p:cNvSpPr/>
          <p:nvPr/>
        </p:nvSpPr>
        <p:spPr>
          <a:xfrm>
            <a:off x="36576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"/>
          <p:cNvSpPr/>
          <p:nvPr/>
        </p:nvSpPr>
        <p:spPr>
          <a:xfrm>
            <a:off x="41911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"/>
          <p:cNvSpPr/>
          <p:nvPr/>
        </p:nvSpPr>
        <p:spPr>
          <a:xfrm>
            <a:off x="472428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8"/>
          <p:cNvSpPr/>
          <p:nvPr/>
        </p:nvSpPr>
        <p:spPr>
          <a:xfrm>
            <a:off x="52578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9"/>
          <p:cNvSpPr/>
          <p:nvPr/>
        </p:nvSpPr>
        <p:spPr>
          <a:xfrm>
            <a:off x="57913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0"/>
          <p:cNvSpPr/>
          <p:nvPr/>
        </p:nvSpPr>
        <p:spPr>
          <a:xfrm>
            <a:off x="77724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1"/>
          <p:cNvSpPr/>
          <p:nvPr/>
        </p:nvSpPr>
        <p:spPr>
          <a:xfrm>
            <a:off x="83059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6081120" y="56530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3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2422080" y="4662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5197320" y="4938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5166000" y="4586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2636280" y="4981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5303160" y="49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9"/>
          <p:cNvSpPr/>
          <p:nvPr/>
        </p:nvSpPr>
        <p:spPr>
          <a:xfrm>
            <a:off x="2879640" y="53481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0"/>
          <p:cNvSpPr/>
          <p:nvPr/>
        </p:nvSpPr>
        <p:spPr>
          <a:xfrm>
            <a:off x="5470560" y="5272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1"/>
          <p:cNvGrpSpPr/>
          <p:nvPr/>
        </p:nvGrpSpPr>
        <p:grpSpPr>
          <a:xfrm>
            <a:off x="3429000" y="5867280"/>
            <a:ext cx="1676520" cy="533520"/>
            <a:chOff x="3429000" y="5867280"/>
            <a:chExt cx="1676520" cy="533520"/>
          </a:xfrm>
        </p:grpSpPr>
        <p:sp>
          <p:nvSpPr>
            <p:cNvPr id="421" name="Line 22"/>
            <p:cNvSpPr/>
            <p:nvPr/>
          </p:nvSpPr>
          <p:spPr>
            <a:xfrm>
              <a:off x="3429000" y="5867280"/>
              <a:ext cx="0" cy="36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3"/>
            <p:cNvSpPr/>
            <p:nvPr/>
          </p:nvSpPr>
          <p:spPr>
            <a:xfrm>
              <a:off x="4038480" y="586728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4"/>
            <p:cNvSpPr/>
            <p:nvPr/>
          </p:nvSpPr>
          <p:spPr>
            <a:xfrm>
              <a:off x="4572000" y="5867280"/>
              <a:ext cx="0" cy="32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5"/>
            <p:cNvSpPr/>
            <p:nvPr/>
          </p:nvSpPr>
          <p:spPr>
            <a:xfrm>
              <a:off x="510552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queue that allows G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14264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  // …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c Object dequeue() throws Exception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 empty() )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  throw new Exception()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  Object data = store[front]; 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// get front data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// set pointer to null, so it can be garbage-collected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// later (when caller code doesn’t let’s go of pointer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8dc765"/>
                </a:solidFill>
                <a:latin typeface="Courier New"/>
              </a:rPr>
              <a:t>store[front] = null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ront++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return data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3124080" y="5638680"/>
            <a:ext cx="5715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"/>
          <p:cNvSpPr/>
          <p:nvPr/>
        </p:nvSpPr>
        <p:spPr>
          <a:xfrm>
            <a:off x="36576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6"/>
          <p:cNvSpPr/>
          <p:nvPr/>
        </p:nvSpPr>
        <p:spPr>
          <a:xfrm>
            <a:off x="41911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"/>
          <p:cNvSpPr/>
          <p:nvPr/>
        </p:nvSpPr>
        <p:spPr>
          <a:xfrm>
            <a:off x="472428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52578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9"/>
          <p:cNvSpPr/>
          <p:nvPr/>
        </p:nvSpPr>
        <p:spPr>
          <a:xfrm>
            <a:off x="57913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77724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83059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2"/>
          <p:cNvSpPr/>
          <p:nvPr/>
        </p:nvSpPr>
        <p:spPr>
          <a:xfrm>
            <a:off x="6081120" y="56530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2422080" y="4662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5"/>
          <p:cNvSpPr/>
          <p:nvPr/>
        </p:nvSpPr>
        <p:spPr>
          <a:xfrm>
            <a:off x="5197320" y="4938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5166000" y="4586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2636280" y="4981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5303160" y="49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2879640" y="53481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0"/>
          <p:cNvSpPr/>
          <p:nvPr/>
        </p:nvSpPr>
        <p:spPr>
          <a:xfrm>
            <a:off x="5470560" y="5272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21"/>
          <p:cNvGrpSpPr/>
          <p:nvPr/>
        </p:nvGrpSpPr>
        <p:grpSpPr>
          <a:xfrm>
            <a:off x="3429000" y="5867280"/>
            <a:ext cx="1676520" cy="533520"/>
            <a:chOff x="3429000" y="5867280"/>
            <a:chExt cx="1676520" cy="533520"/>
          </a:xfrm>
        </p:grpSpPr>
        <p:sp>
          <p:nvSpPr>
            <p:cNvPr id="445" name="Line 22"/>
            <p:cNvSpPr/>
            <p:nvPr/>
          </p:nvSpPr>
          <p:spPr>
            <a:xfrm>
              <a:off x="3429000" y="5867280"/>
              <a:ext cx="0" cy="36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>
              <a:off x="4038480" y="586728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4"/>
            <p:cNvSpPr/>
            <p:nvPr/>
          </p:nvSpPr>
          <p:spPr>
            <a:xfrm>
              <a:off x="4572000" y="5867280"/>
              <a:ext cx="0" cy="32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5"/>
            <p:cNvSpPr/>
            <p:nvPr/>
          </p:nvSpPr>
          <p:spPr>
            <a:xfrm>
              <a:off x="510552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ircular Arra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ppose many enqueue operations followed by many dequeue oper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ult:  rear approaches MAX but the queue is not really fu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lution:  Circular Arr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w rear (and front) to “wrap around” the array (if rear = MAX-1, incrementing rear means resetting it to 0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lternativ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ternative ways of visualiz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cyclic array (length 8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209680" cy="19843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"/>
          <p:cNvPicPr/>
          <p:nvPr/>
        </p:nvPicPr>
        <p:blipFill>
          <a:blip r:embed="rId2"/>
          <a:stretch/>
        </p:blipFill>
        <p:spPr>
          <a:xfrm>
            <a:off x="1066680" y="5029200"/>
            <a:ext cx="75438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mpty ope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turn (queue_of_front == queue_of_rea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move ope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(empty(queu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{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t(“underflow); exi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(queue_of_front == max-1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_of_front =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queue_of_front)++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urn (queue_items[queue_of_front]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sert ope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(queue_of_rear == max-1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_of_rear=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queue_of_rear)++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(queue_of_rear ==queue_of_fron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t(“queue overflow”);  (queue_of_rear)--; exit; 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_items[queue_of_rear]=x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ircular Array, continu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s the array full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ple answer: when (rear == fron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blem:  this is the same condition as emp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lution: Reserve a sl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ull:   when ( (rear+1) % MAX == front)   (one free slot lef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mpty: when ( rear == front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e: “wastes” a sl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ternative: have a boolean field called hasEle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ull:  when ( hasElements &amp;&amp; (rear == front)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t not really bet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asElements takes up extra space to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lso, need to take care of hasElements in enqueue and dequeu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vised En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enqueue( Object o 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(rear + 1) % MAX != front 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[rear] = o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r = (rear + 1) % MAX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vised De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42640" y="1294920"/>
            <a:ext cx="7278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dequeue() throws Excep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empty()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throw new Exception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Object data = store[front]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[front] = nul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nt = (front + 1) % MAX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data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47920" y="1219320"/>
            <a:ext cx="72388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queue is a first-in-first-out (FIFO) sequential data structure in which elements are added (enqueued) at one end (the back) and elements are removed (dequeued) at the other end (the front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 good example is a queue. We encounter queues all the time in every day lif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What makes a queue a queue? What is the essence of queueness?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21337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"/>
          <p:cNvSpPr/>
          <p:nvPr/>
        </p:nvSpPr>
        <p:spPr>
          <a:xfrm>
            <a:off x="28195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"/>
          <p:cNvSpPr/>
          <p:nvPr/>
        </p:nvSpPr>
        <p:spPr>
          <a:xfrm>
            <a:off x="35053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403848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3048120" y="3733920"/>
            <a:ext cx="3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2362320" y="3733920"/>
            <a:ext cx="3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5"/>
          <p:cNvSpPr/>
          <p:nvPr/>
        </p:nvSpPr>
        <p:spPr>
          <a:xfrm>
            <a:off x="1600200" y="3657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6"/>
          <p:cNvSpPr/>
          <p:nvPr/>
        </p:nvSpPr>
        <p:spPr>
          <a:xfrm>
            <a:off x="1600200" y="41148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133720" y="327672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2895480" y="327672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Using the 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ue q = new ArrayQueue(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result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the following should be enclosed in a try-catch stm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.enqueue( new Integer(5) 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.enqueue( new Integer(2) 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 = ((Integer)q.dequeue()).intValue(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result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.enqueue( new Integer(3) 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 = ((Integer)q.dequeue()).intValue(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 result 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inked List Implement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1447920" y="3581280"/>
            <a:ext cx="12189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6705720" y="35812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95288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20040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"/>
          <p:cNvSpPr/>
          <p:nvPr/>
        </p:nvSpPr>
        <p:spPr>
          <a:xfrm>
            <a:off x="75438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579132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4038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1"/>
          <p:cNvSpPr/>
          <p:nvPr/>
        </p:nvSpPr>
        <p:spPr>
          <a:xfrm>
            <a:off x="16765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2"/>
          <p:cNvSpPr/>
          <p:nvPr/>
        </p:nvSpPr>
        <p:spPr>
          <a:xfrm>
            <a:off x="5257800" y="4724280"/>
            <a:ext cx="9907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3"/>
          <p:cNvSpPr/>
          <p:nvPr/>
        </p:nvSpPr>
        <p:spPr>
          <a:xfrm>
            <a:off x="3505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4"/>
          <p:cNvSpPr/>
          <p:nvPr/>
        </p:nvSpPr>
        <p:spPr>
          <a:xfrm>
            <a:off x="6934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5"/>
          <p:cNvSpPr/>
          <p:nvPr/>
        </p:nvSpPr>
        <p:spPr>
          <a:xfrm>
            <a:off x="18288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70866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7"/>
          <p:cNvSpPr/>
          <p:nvPr/>
        </p:nvSpPr>
        <p:spPr>
          <a:xfrm>
            <a:off x="533412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8"/>
          <p:cNvSpPr/>
          <p:nvPr/>
        </p:nvSpPr>
        <p:spPr>
          <a:xfrm>
            <a:off x="358128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243828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0"/>
          <p:cNvSpPr/>
          <p:nvPr/>
        </p:nvSpPr>
        <p:spPr>
          <a:xfrm>
            <a:off x="594360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1"/>
          <p:cNvSpPr/>
          <p:nvPr/>
        </p:nvSpPr>
        <p:spPr>
          <a:xfrm>
            <a:off x="4191120" y="3886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2"/>
          <p:cNvSpPr/>
          <p:nvPr/>
        </p:nvSpPr>
        <p:spPr>
          <a:xfrm>
            <a:off x="1235160" y="2728800"/>
            <a:ext cx="304560" cy="838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3"/>
          <p:cNvSpPr/>
          <p:nvPr/>
        </p:nvSpPr>
        <p:spPr>
          <a:xfrm>
            <a:off x="1082520" y="257652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4"/>
          <p:cNvSpPr/>
          <p:nvPr/>
        </p:nvSpPr>
        <p:spPr>
          <a:xfrm>
            <a:off x="1066320" y="2209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7528320" y="3595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6"/>
          <p:cNvSpPr/>
          <p:nvPr/>
        </p:nvSpPr>
        <p:spPr>
          <a:xfrm>
            <a:off x="6645240" y="272880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7"/>
          <p:cNvSpPr/>
          <p:nvPr/>
        </p:nvSpPr>
        <p:spPr>
          <a:xfrm>
            <a:off x="6492960" y="257652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8"/>
          <p:cNvSpPr/>
          <p:nvPr/>
        </p:nvSpPr>
        <p:spPr>
          <a:xfrm>
            <a:off x="6477480" y="2209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ObjectNode Clas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990360" y="1599840"/>
            <a:ext cx="792468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ObjectNod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 data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Node nex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Data( Object o ) { data = o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getData() { return data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Next( ObjectNode p 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next = p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Node getNext() { return next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n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1447920" y="3581280"/>
            <a:ext cx="12189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6705720" y="35812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95288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320040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7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75438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9"/>
          <p:cNvSpPr/>
          <p:nvPr/>
        </p:nvSpPr>
        <p:spPr>
          <a:xfrm>
            <a:off x="579132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0"/>
          <p:cNvSpPr/>
          <p:nvPr/>
        </p:nvSpPr>
        <p:spPr>
          <a:xfrm>
            <a:off x="4038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1"/>
          <p:cNvSpPr/>
          <p:nvPr/>
        </p:nvSpPr>
        <p:spPr>
          <a:xfrm>
            <a:off x="16765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2"/>
          <p:cNvSpPr/>
          <p:nvPr/>
        </p:nvSpPr>
        <p:spPr>
          <a:xfrm>
            <a:off x="5257800" y="4724280"/>
            <a:ext cx="9907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3"/>
          <p:cNvSpPr/>
          <p:nvPr/>
        </p:nvSpPr>
        <p:spPr>
          <a:xfrm>
            <a:off x="3505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4"/>
          <p:cNvSpPr/>
          <p:nvPr/>
        </p:nvSpPr>
        <p:spPr>
          <a:xfrm>
            <a:off x="6934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5"/>
          <p:cNvSpPr/>
          <p:nvPr/>
        </p:nvSpPr>
        <p:spPr>
          <a:xfrm>
            <a:off x="18288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6"/>
          <p:cNvSpPr/>
          <p:nvPr/>
        </p:nvSpPr>
        <p:spPr>
          <a:xfrm>
            <a:off x="70866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7"/>
          <p:cNvSpPr/>
          <p:nvPr/>
        </p:nvSpPr>
        <p:spPr>
          <a:xfrm>
            <a:off x="533412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8"/>
          <p:cNvSpPr/>
          <p:nvPr/>
        </p:nvSpPr>
        <p:spPr>
          <a:xfrm>
            <a:off x="358128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9"/>
          <p:cNvSpPr/>
          <p:nvPr/>
        </p:nvSpPr>
        <p:spPr>
          <a:xfrm>
            <a:off x="243828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0"/>
          <p:cNvSpPr/>
          <p:nvPr/>
        </p:nvSpPr>
        <p:spPr>
          <a:xfrm>
            <a:off x="594360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1"/>
          <p:cNvSpPr/>
          <p:nvPr/>
        </p:nvSpPr>
        <p:spPr>
          <a:xfrm>
            <a:off x="4191120" y="3886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2"/>
          <p:cNvSpPr/>
          <p:nvPr/>
        </p:nvSpPr>
        <p:spPr>
          <a:xfrm>
            <a:off x="1235160" y="2728800"/>
            <a:ext cx="30456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3"/>
          <p:cNvSpPr/>
          <p:nvPr/>
        </p:nvSpPr>
        <p:spPr>
          <a:xfrm>
            <a:off x="1082520" y="257652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4"/>
          <p:cNvSpPr/>
          <p:nvPr/>
        </p:nvSpPr>
        <p:spPr>
          <a:xfrm>
            <a:off x="1066320" y="2209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5"/>
          <p:cNvSpPr/>
          <p:nvPr/>
        </p:nvSpPr>
        <p:spPr>
          <a:xfrm>
            <a:off x="7528320" y="3595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6"/>
          <p:cNvSpPr/>
          <p:nvPr/>
        </p:nvSpPr>
        <p:spPr>
          <a:xfrm>
            <a:off x="6645240" y="272880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7"/>
          <p:cNvSpPr/>
          <p:nvPr/>
        </p:nvSpPr>
        <p:spPr>
          <a:xfrm>
            <a:off x="6492960" y="257652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8"/>
          <p:cNvSpPr/>
          <p:nvPr/>
        </p:nvSpPr>
        <p:spPr>
          <a:xfrm>
            <a:off x="6477480" y="2209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9"/>
          <p:cNvSpPr/>
          <p:nvPr/>
        </p:nvSpPr>
        <p:spPr>
          <a:xfrm>
            <a:off x="6781680" y="2743200"/>
            <a:ext cx="533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30"/>
          <p:cNvSpPr/>
          <p:nvPr/>
        </p:nvSpPr>
        <p:spPr>
          <a:xfrm flipV="1">
            <a:off x="7848720" y="304776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1"/>
          <p:cNvSpPr/>
          <p:nvPr/>
        </p:nvSpPr>
        <p:spPr>
          <a:xfrm>
            <a:off x="7391520" y="2438280"/>
            <a:ext cx="1523880" cy="53352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2"/>
          <p:cNvSpPr/>
          <p:nvPr/>
        </p:nvSpPr>
        <p:spPr>
          <a:xfrm>
            <a:off x="8229600" y="2438280"/>
            <a:ext cx="0" cy="533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8214120" y="2452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4"/>
          <p:cNvSpPr/>
          <p:nvPr/>
        </p:nvSpPr>
        <p:spPr>
          <a:xfrm>
            <a:off x="7696080" y="36576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5"/>
          <p:cNvSpPr/>
          <p:nvPr/>
        </p:nvSpPr>
        <p:spPr>
          <a:xfrm flipV="1">
            <a:off x="7696080" y="365724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6"/>
          <p:cNvSpPr/>
          <p:nvPr/>
        </p:nvSpPr>
        <p:spPr>
          <a:xfrm>
            <a:off x="6705720" y="304812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7"/>
          <p:cNvSpPr/>
          <p:nvPr/>
        </p:nvSpPr>
        <p:spPr>
          <a:xfrm flipV="1">
            <a:off x="6705720" y="304776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8"/>
          <p:cNvSpPr/>
          <p:nvPr/>
        </p:nvSpPr>
        <p:spPr>
          <a:xfrm>
            <a:off x="7315200" y="1295280"/>
            <a:ext cx="990720" cy="457200"/>
          </a:xfrm>
          <a:prstGeom prst="ellipse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9"/>
          <p:cNvSpPr/>
          <p:nvPr/>
        </p:nvSpPr>
        <p:spPr>
          <a:xfrm flipV="1">
            <a:off x="7848720" y="190476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1447920" y="3581280"/>
            <a:ext cx="12189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6705720" y="35812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495288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20040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8"/>
          <p:cNvSpPr/>
          <p:nvPr/>
        </p:nvSpPr>
        <p:spPr>
          <a:xfrm>
            <a:off x="75438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579132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4038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16765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5257800" y="4724280"/>
            <a:ext cx="9907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3"/>
          <p:cNvSpPr/>
          <p:nvPr/>
        </p:nvSpPr>
        <p:spPr>
          <a:xfrm>
            <a:off x="3505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4"/>
          <p:cNvSpPr/>
          <p:nvPr/>
        </p:nvSpPr>
        <p:spPr>
          <a:xfrm>
            <a:off x="6934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5"/>
          <p:cNvSpPr/>
          <p:nvPr/>
        </p:nvSpPr>
        <p:spPr>
          <a:xfrm>
            <a:off x="18288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6"/>
          <p:cNvSpPr/>
          <p:nvPr/>
        </p:nvSpPr>
        <p:spPr>
          <a:xfrm>
            <a:off x="70866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7"/>
          <p:cNvSpPr/>
          <p:nvPr/>
        </p:nvSpPr>
        <p:spPr>
          <a:xfrm>
            <a:off x="533412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8"/>
          <p:cNvSpPr/>
          <p:nvPr/>
        </p:nvSpPr>
        <p:spPr>
          <a:xfrm>
            <a:off x="358128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9"/>
          <p:cNvSpPr/>
          <p:nvPr/>
        </p:nvSpPr>
        <p:spPr>
          <a:xfrm>
            <a:off x="243828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0"/>
          <p:cNvSpPr/>
          <p:nvPr/>
        </p:nvSpPr>
        <p:spPr>
          <a:xfrm>
            <a:off x="594360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1"/>
          <p:cNvSpPr/>
          <p:nvPr/>
        </p:nvSpPr>
        <p:spPr>
          <a:xfrm>
            <a:off x="4191120" y="3886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2"/>
          <p:cNvSpPr/>
          <p:nvPr/>
        </p:nvSpPr>
        <p:spPr>
          <a:xfrm>
            <a:off x="1235160" y="2728800"/>
            <a:ext cx="30456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3"/>
          <p:cNvSpPr/>
          <p:nvPr/>
        </p:nvSpPr>
        <p:spPr>
          <a:xfrm>
            <a:off x="1082520" y="257652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1066320" y="2209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5"/>
          <p:cNvSpPr/>
          <p:nvPr/>
        </p:nvSpPr>
        <p:spPr>
          <a:xfrm>
            <a:off x="7528320" y="3595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6"/>
          <p:cNvSpPr/>
          <p:nvPr/>
        </p:nvSpPr>
        <p:spPr>
          <a:xfrm>
            <a:off x="6645240" y="272880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7"/>
          <p:cNvSpPr/>
          <p:nvPr/>
        </p:nvSpPr>
        <p:spPr>
          <a:xfrm>
            <a:off x="6492960" y="257652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8"/>
          <p:cNvSpPr/>
          <p:nvPr/>
        </p:nvSpPr>
        <p:spPr>
          <a:xfrm>
            <a:off x="6477480" y="2209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9"/>
          <p:cNvSpPr/>
          <p:nvPr/>
        </p:nvSpPr>
        <p:spPr>
          <a:xfrm>
            <a:off x="1295280" y="312408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30"/>
          <p:cNvSpPr/>
          <p:nvPr/>
        </p:nvSpPr>
        <p:spPr>
          <a:xfrm flipV="1">
            <a:off x="1295280" y="312372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1"/>
          <p:cNvSpPr/>
          <p:nvPr/>
        </p:nvSpPr>
        <p:spPr>
          <a:xfrm>
            <a:off x="1371600" y="2743200"/>
            <a:ext cx="205740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2"/>
          <p:cNvSpPr/>
          <p:nvPr/>
        </p:nvSpPr>
        <p:spPr>
          <a:xfrm>
            <a:off x="1215720" y="579132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hi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 flipV="1">
            <a:off x="2133720" y="5257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LinkedQueue Clas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LinkedQueue implements Queu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Node front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Node rear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LinkedQueue(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ont = rear = nul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other Queue metho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Applica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Queue for bill submis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Play list of audio song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Printer  job schedul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Round Robin schedul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Joseph problem discussed in boo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erforma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time needed to add or delete an item is constant and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dependent of the number of items in the queu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th addition and deletion as an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peration. For any given real machine+operating system+language combination, addition may take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c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onds and deletion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c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onds, but we aren't interested in the value of the constant, it will vary from machine to machine, language to language,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key point is that the time is not dependent on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- producing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gorithm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thods are already very fast, and it's unlikely that effort expended in improving such a method will produce much real gain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iority Queue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ften the items added to a queue have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riority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ociated with them: this priority determines the order in which they exit the queue - highest priority items are removed first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situation arises often in process control systems. Imagine the operator's console in a large automated factory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ccasionally something breaks or fails and alarm messages are sent. These have high priority because some action is required to fix the proble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iority 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priority queue is a data structure in which th natural ordering of the elements does determine the results of its basic operatio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types of priority queu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cen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cen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ck can be view as descending priority queue, whose element are ordered by time of inser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 is ascending priority queu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ue Concept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67057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Array implementation of priority Queu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delete operation in ascending priority queue. This raise two iss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cate smallest element, Every element of the array must examine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element in the middle of array be delete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ority queue deletion requires both searching and dele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olu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 empty indicator can be placed into deleted position. can be value or separate field. Disadvantages are search process to locate  max or min examine all deleted positio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deletion campact the array by shiffting all elements. So the deletion become so inefficien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tain an array as an ordered circuler array.this method moves the work of searching and shiffting from deletion operation to inser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olu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the last solution array is sorted and searching is half expensive as compared to unordered arr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ink implementation of priority queu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it yourself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me wor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isadvantage by link lis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k list occupies more storage than a corresponding element in an arr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me spent in Management of available li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Queue applications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t serve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ains a queue of print job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k drive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ains a queue of disk input/output reques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cheduler (e.g., in an operating system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ains a queue of processes awaiting a slice of machine tim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eration on Queue using arra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se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mpt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rst-in, First-out (FIFO) 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sertqueu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insert element at re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eletequeu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remove &amp; return front el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check if the queue has no ele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mple u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ling requests and reserv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Array Implementation of Queu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1294920"/>
            <a:ext cx="84978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Object array and two integ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fron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dex of first element in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a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dex of first FREE element in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2073240" y="4176720"/>
            <a:ext cx="5715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260676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"/>
          <p:cNvSpPr/>
          <p:nvPr/>
        </p:nvSpPr>
        <p:spPr>
          <a:xfrm>
            <a:off x="313992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367344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420696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474012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0"/>
          <p:cNvSpPr/>
          <p:nvPr/>
        </p:nvSpPr>
        <p:spPr>
          <a:xfrm>
            <a:off x="672156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725472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030280" y="41911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3"/>
          <p:cNvSpPr/>
          <p:nvPr/>
        </p:nvSpPr>
        <p:spPr>
          <a:xfrm>
            <a:off x="1920960" y="524340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4"/>
          <p:cNvSpPr/>
          <p:nvPr/>
        </p:nvSpPr>
        <p:spPr>
          <a:xfrm>
            <a:off x="2530440" y="562464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5"/>
          <p:cNvSpPr/>
          <p:nvPr/>
        </p:nvSpPr>
        <p:spPr>
          <a:xfrm>
            <a:off x="3139920" y="524340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6"/>
          <p:cNvSpPr/>
          <p:nvPr/>
        </p:nvSpPr>
        <p:spPr>
          <a:xfrm>
            <a:off x="3673440" y="562464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7"/>
          <p:cNvSpPr/>
          <p:nvPr/>
        </p:nvSpPr>
        <p:spPr>
          <a:xfrm>
            <a:off x="2301840" y="4481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2911320" y="44816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9"/>
          <p:cNvSpPr/>
          <p:nvPr/>
        </p:nvSpPr>
        <p:spPr>
          <a:xfrm>
            <a:off x="3444840" y="4481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3978360" y="448164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1463760" y="35672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1371240" y="320040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3"/>
          <p:cNvSpPr/>
          <p:nvPr/>
        </p:nvSpPr>
        <p:spPr>
          <a:xfrm>
            <a:off x="4146480" y="347652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4115160" y="3124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1585440" y="351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6"/>
          <p:cNvSpPr/>
          <p:nvPr/>
        </p:nvSpPr>
        <p:spPr>
          <a:xfrm>
            <a:off x="4252320" y="34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7"/>
          <p:cNvSpPr/>
          <p:nvPr/>
        </p:nvSpPr>
        <p:spPr>
          <a:xfrm>
            <a:off x="1828800" y="38862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8"/>
          <p:cNvSpPr/>
          <p:nvPr/>
        </p:nvSpPr>
        <p:spPr>
          <a:xfrm>
            <a:off x="441972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rray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store[]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front, rear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 final int MAX = 100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ArrayQueue(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ore = new Object[MAX]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rear = 0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Check for Empty and Enqueu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143000" y="1066680"/>
            <a:ext cx="7772400" cy="32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class ArrayQueue implements Queue {  // 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boolean empty(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 // queue is empty if first element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s the same as the first free elemen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( front == rear 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void enqueue( Object o 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 // put data in first free slo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move rear index to next slo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rear &lt; MAX 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ore[rear++] = o;  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3124080" y="5638680"/>
            <a:ext cx="5715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36576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6"/>
          <p:cNvSpPr/>
          <p:nvPr/>
        </p:nvSpPr>
        <p:spPr>
          <a:xfrm>
            <a:off x="41911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472428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52578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57913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77724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83059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6081120" y="56530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2422080" y="4662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5197320" y="4938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5166000" y="4586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2636280" y="4981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5303160" y="49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9"/>
          <p:cNvSpPr/>
          <p:nvPr/>
        </p:nvSpPr>
        <p:spPr>
          <a:xfrm>
            <a:off x="2879640" y="53481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0"/>
          <p:cNvSpPr/>
          <p:nvPr/>
        </p:nvSpPr>
        <p:spPr>
          <a:xfrm>
            <a:off x="5470560" y="5272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21"/>
          <p:cNvGrpSpPr/>
          <p:nvPr/>
        </p:nvGrpSpPr>
        <p:grpSpPr>
          <a:xfrm>
            <a:off x="3429000" y="5867280"/>
            <a:ext cx="1676520" cy="533520"/>
            <a:chOff x="3429000" y="5867280"/>
            <a:chExt cx="1676520" cy="533520"/>
          </a:xfrm>
        </p:grpSpPr>
        <p:sp>
          <p:nvSpPr>
            <p:cNvPr id="397" name="Line 22"/>
            <p:cNvSpPr/>
            <p:nvPr/>
          </p:nvSpPr>
          <p:spPr>
            <a:xfrm>
              <a:off x="3429000" y="5867280"/>
              <a:ext cx="0" cy="36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3"/>
            <p:cNvSpPr/>
            <p:nvPr/>
          </p:nvSpPr>
          <p:spPr>
            <a:xfrm>
              <a:off x="4038480" y="586728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>
              <a:off x="4572000" y="5867280"/>
              <a:ext cx="0" cy="32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5"/>
            <p:cNvSpPr/>
            <p:nvPr/>
          </p:nvSpPr>
          <p:spPr>
            <a:xfrm>
              <a:off x="510552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3:00:41Z</dcterms:created>
  <dc:creator>Admin</dc:creator>
  <dc:description/>
  <dc:language>en-US</dc:language>
  <cp:lastModifiedBy>qrajput</cp:lastModifiedBy>
  <dcterms:modified xsi:type="dcterms:W3CDTF">2009-10-27T08:35:37Z</dcterms:modified>
  <cp:revision>15</cp:revision>
  <dc:subject/>
  <dc:title>Queues</dc:title>
</cp:coreProperties>
</file>